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0F7A-B488-41C3-853D-8081A04E387A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B542-C70F-41D0-8526-411AF7AAD4A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8DD0-7EC6-4832-8F94-BAB8DD61B57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Access mechanism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"/>
          <p:cNvPicPr/>
          <p:nvPr/>
        </p:nvPicPr>
        <p:blipFill>
          <a:blip r:embed="rId5"/>
          <a:stretch/>
        </p:blipFill>
        <p:spPr>
          <a:xfrm>
            <a:off x="11455560" y="9186840"/>
            <a:ext cx="1155600" cy="406440"/>
          </a:xfrm>
          <a:prstGeom prst="rect">
            <a:avLst/>
          </a:prstGeom>
          <a:ln w="0">
            <a:noFill/>
          </a:ln>
        </p:spPr>
      </p:pic>
      <p:sp>
        <p:nvSpPr>
          <p:cNvPr id="747" name="TextBox 9"/>
          <p:cNvSpPr/>
          <p:nvPr/>
        </p:nvSpPr>
        <p:spPr>
          <a:xfrm>
            <a:off x="8340120" y="9291600"/>
            <a:ext cx="25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pyright 2012 Robert R. Downs.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re are choices for access mechanisms that can foster access to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election of access mechanisms should be based on the needs of the user community and the opportunities that are availa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lternatives should be considered when selecting among available opportunities for providing access to your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hoices among access mechanisms can influence how your data are managed, discovered, accessed, and used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can have continuing value if they are available for others to us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mechanisms can enable data discovery, accessibility, and usability by the intended community of us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availability of data services and ongoing support can enable new uses of the data by targeted communities, by new communities, and by future communities of us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that continue to be used can be recognized as having future value and as being worthy of continuing stewardshi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cess Mechanism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provid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ingle or multiple distributors (version control, commitment, cited sourc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roducer’s website, project website, blog, Email, portable medi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tributo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’s website: organized by collections, projects, or produc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e access to packaged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 package includes documentation (any information users need to know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o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ree or fee, discovery, user capabilities, user services (help), registration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ganizational commitment, infrastructure, continuing managemen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ptions for enabling acces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209680"/>
            <a:ext cx="11861640" cy="668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atalo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scribed within searchable catalogs that are relevant to user commun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scriptions provide sufficient information to inform usage decis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lle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ny datasets may be accessible through a single collec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ction may include resources for a topic or for other purpos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set webpage (data page, splash page, landing pag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age provides access to data and contextual informa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ntains dataset title, metadata, related resources, recommended citat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rvi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base, gazetteer, linked data, search, intuitive (smart) interfac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eb Coverage Services (WCS), Web Map Services (WMS), Web Processing Services (WPS), Web Feature Services (WFS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der system for delivery on portable medi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nsiderations for access mechanism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057040"/>
            <a:ext cx="1186164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visioned users and us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ites for research (disciplinary, interdisciplinary), education, planning, policy-making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unity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ownload, analysis or data integration tools, reference services (help desk, FAQ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ffiliations (organizational, disciplinary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Government clearinghouse, institutional repository, disciplinary archive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sts for deposit, maintenance, or acces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Free deposit, free access, deposit fees, access fees, subscription fee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overy opportunit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nclusion in catalogs, metadata harvesting, search engine optimization, 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acilitating registration, rights, or restric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Capabilities to require registration, respect rights, or enforce restriction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xpertise and resource availability (current and long-term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ustainable organization and infrastructure to foster ongoing development and acces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and impact meas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ownload counts, page visits by domain or country,  published uses, usage in spotlight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ercivall, G., Ménard, L., Chung, L., Nativi, S., and Pearlman, J. (2011). Geo-processing in cyberinfrastructure: making the web an easy to use geospatial computational platform. 34th International Symposium on Remote Sensing of Environment, Sydney, Australia. Available online at http://hal.archives-ouvertes.fr/hal-00608573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GEOSS AIP-2 Demonstration. Open Geospatial Consortium, Inc. Available online at http://www.ogcnetwork.net/pub/ogcnetwork/GEOSS/AIP2/index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racking data us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etadata for discove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etermining your aud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roadening your user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2-03-06T17:57:51Z</dcterms:modified>
  <cp:revision>95</cp:revision>
  <dc:subject/>
  <dc:title>ESIP Federation 101</dc:title>
</cp:coreProperties>
</file>